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299-E70B-49B6-BB86-F94566E4A6D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977F-6B54-456E-99BC-38614EB8FE8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9344-8851-4154-8FC9-C70C973CF2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C87-BE03-4295-B570-5AAA3AEF53E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49D9-A900-48BA-997F-E68D922B79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41F-E565-4803-BB1A-BF784B6932B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D85D-9A37-46D4-8B3B-5F9E7BF59C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3AA6-95CA-495D-8A9D-D22F2D4FDCE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64A2-6C7C-479C-A659-DAEE23AAAE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AD04-8A41-4853-890A-1ED77BE3C7E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E59E-6E8D-46F3-B5CC-7954DC8183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F0F-9CDF-4B48-B400-B4EB0A5E22B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6487-F870-41A4-868A-AA5E8DBE05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5007-2197-417A-83C8-B24A08E1A26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A388-6717-4C6A-81DC-0CF6A5C64A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DA27-08B9-43E2-8C7A-990A1CE2AC2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8C3-DFD2-4872-BCE1-AF88583E25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5113-DB1B-4E2D-BDD5-FC210D0900F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241A-6D15-43FD-A31A-FB5C77746F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8666-1AB5-4952-A563-A3B4CE24309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2808-0365-4C3D-BA29-70102B7697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8388-D1BB-42C0-8C41-1BD095950E1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F5D-7497-47A5-8991-9572CC8186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0DE-5376-42D4-A7D8-5C712C9EA81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9C18-9E17-4E28-AD51-F1CB6B7732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DCC4-3C09-4A74-BC74-CC143A05FDD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3E19-E3F8-4803-93F8-8485027813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7DF-AB88-4009-A8A8-D7B6D7B5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1AC-885F-41BF-B490-6359057E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81A-801F-4BF4-A9B5-1BD2D378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180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384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976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180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384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E51-BCC4-4F76-B6F5-6EE159FA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369B-52C5-4D99-9BC3-2ED719B9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397D-EB25-4281-8F45-D2949CD8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75E5-477A-41D3-B4B5-ACE688E0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0631-BF60-4349-87B0-F07AC849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2643-0350-44D0-B816-BA4C87E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AAC2-BE2E-4FFC-8C82-803E0035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C1FF-D816-4AE2-ADF6-0C0CE8A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172-1935-43CD-8E03-92A95856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2C2E-7D97-4071-8158-F4BED2E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D73-424A-48A6-8366-4A42CDF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F5F0-D42E-43F7-A87A-4A36F0D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D0E3-C316-40CB-856F-24B61670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1180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9384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2976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1180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69384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274B-19E7-405C-BA95-7D4CD0D0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3571-AA6C-4129-A0E1-50D585A1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A970-C799-4292-BB20-8815D487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3FDD-932B-428C-82E1-90EFBF66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AC1F-FBD7-4365-BDD0-D3F5B18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C94A-D214-4EDD-A6D2-3D5EC7B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142-A963-4EC1-BC8F-1CBE87F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884B-E6EB-40BE-8E74-2C1FE862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63F3-FF59-4AC4-A160-C2A3CA5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4D7F-85A7-4424-A46A-D9254411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1608-D606-4AC9-B13E-05D2702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D769-36EE-451E-9715-D4821826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E26C-6735-4243-A266-00B3542D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180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9384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2976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180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69384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5D60-3AEB-476E-8294-CAE320E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DA67-C531-4563-817A-D18B30FF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CA48-50DA-4989-9571-F755A41B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15CB-8C7D-463F-8BC6-BE202C8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CC4-8B9A-49E7-8D15-D2E7090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78EC-1B0D-489C-A48B-B1526ABD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FD77-4398-4D44-A7DB-2B663B56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625C-9427-4D44-A9D7-DF85BE8B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8148-F37A-4B68-ACE1-9224EBD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F001-0FBB-435E-BB88-606688A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14B0-7969-46D9-B520-D160397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B1212-AAB4-44CF-834E-06A2DCF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5ECA-A9E4-48FF-83FD-8239F46B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1180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693840" y="155412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2976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1180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693840" y="3918240"/>
            <a:ext cx="303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3E86-5717-40AC-9EDF-4752A1EE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2C4-3408-46AF-AB3D-732D2541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9760" y="457200"/>
            <a:ext cx="9410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183-6EBF-4E8F-AE6D-B998124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5E2-4FE8-4762-AE84-F82C2EB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1960" y="391824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7EB-429C-42A3-A520-55CFB8E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97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1960" y="1554120"/>
            <a:ext cx="459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9760" y="3918240"/>
            <a:ext cx="941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48D-F2F5-4959-A81D-F6A9C3E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49360" y="1036800"/>
            <a:ext cx="9362880" cy="29880"/>
            <a:chOff x="549360" y="1036800"/>
            <a:chExt cx="936288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49360" y="1036800"/>
              <a:ext cx="93628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572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016400" y="76320"/>
            <a:ext cx="2724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3E5-237C-43E5-A31D-D1E3E0497306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384360" y="76320"/>
            <a:ext cx="3632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915040" y="6476760"/>
            <a:ext cx="82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846-B66E-4755-9B93-2C840ECE38BA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49360" y="1036800"/>
            <a:ext cx="9362880" cy="29880"/>
            <a:chOff x="549360" y="1036800"/>
            <a:chExt cx="936288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49360" y="1036800"/>
              <a:ext cx="93628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572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49360" y="1047600"/>
            <a:ext cx="9362880" cy="25560"/>
            <a:chOff x="549360" y="1047600"/>
            <a:chExt cx="936288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49360" y="1047600"/>
              <a:ext cx="93628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572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49360" y="5340240"/>
            <a:ext cx="9362880" cy="23760"/>
            <a:chOff x="549360" y="5340240"/>
            <a:chExt cx="936288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49360" y="5340240"/>
              <a:ext cx="93628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5728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016400" y="76320"/>
            <a:ext cx="2724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65D4-0B8E-4846-8A0A-E3C696F41EB1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84360" y="76320"/>
            <a:ext cx="3632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915400" y="6473880"/>
            <a:ext cx="822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071-CCC9-4437-BD95-7254AFD96658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49360" y="1036800"/>
            <a:ext cx="9362880" cy="29880"/>
            <a:chOff x="549360" y="1036800"/>
            <a:chExt cx="936288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49360" y="1036800"/>
              <a:ext cx="93628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572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49360" y="1036800"/>
            <a:ext cx="9362880" cy="29880"/>
            <a:chOff x="549360" y="1036800"/>
            <a:chExt cx="936288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49360" y="1036800"/>
              <a:ext cx="93628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5728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49360" y="1047600"/>
            <a:ext cx="9362880" cy="25560"/>
            <a:chOff x="549360" y="1047600"/>
            <a:chExt cx="936288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49360" y="1047600"/>
              <a:ext cx="93628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5728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016400" y="76320"/>
            <a:ext cx="2724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4E48-9046-42A9-82F1-F86CEAD56A7A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879720" y="76320"/>
            <a:ext cx="3137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915400" y="6473880"/>
            <a:ext cx="822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3E1-1F7F-4687-B820-0144274B1019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29760" y="1554120"/>
            <a:ext cx="941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29760" y="45720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7016400" y="76320"/>
            <a:ext cx="2724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EC79-54F1-4216-B11E-073D3C841CB6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384360" y="76320"/>
            <a:ext cx="3632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915040" y="6476760"/>
            <a:ext cx="82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A3D-1659-4ACB-B6BE-FADF2AFC97F6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212760" y="4761000"/>
            <a:ext cx="2676600" cy="1322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12920" y="3886200"/>
            <a:ext cx="91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5b6f"/>
                </a:solidFill>
                <a:latin typeface="Franklin Gothic Book"/>
              </a:rPr>
              <a:t>«КАЧЕСТВЕНО ПРОФЕСИОНАЛНО ОБУЧЕНИЕ,</a:t>
            </a:r>
            <a:endParaRPr b="0" lang="en-US" sz="19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5b6f"/>
                </a:solidFill>
                <a:latin typeface="Franklin Gothic Book"/>
              </a:rPr>
              <a:t>КАЧЕСТВЕН ЧОВЕШКИ ПОТЕНЦИАЛ, </a:t>
            </a:r>
            <a:endParaRPr b="0" lang="en-US" sz="1900" spc="-1" strike="noStrike">
              <a:solidFill>
                <a:srgbClr val="4e5b6f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5b6f"/>
                </a:solidFill>
                <a:latin typeface="Franklin Gothic Book"/>
              </a:rPr>
              <a:t>КОНКУРЕНТНО ПРОИЗВОДСТВО»</a:t>
            </a:r>
            <a:endParaRPr b="0" lang="en-US" sz="19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 rot="16200000">
            <a:off x="601560" y="70920"/>
            <a:ext cx="747720" cy="1176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 rot="5400000">
            <a:off x="8686080" y="92520"/>
            <a:ext cx="707760" cy="109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96" name="Picture 6" descr=""/>
          <p:cNvPicPr/>
          <p:nvPr/>
        </p:nvPicPr>
        <p:blipFill>
          <a:blip r:embed="rId4"/>
          <a:stretch/>
        </p:blipFill>
        <p:spPr>
          <a:xfrm>
            <a:off x="536400" y="5861160"/>
            <a:ext cx="876600" cy="76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5"/>
          <a:stretch/>
        </p:blipFill>
        <p:spPr>
          <a:xfrm>
            <a:off x="8596440" y="5846760"/>
            <a:ext cx="825480" cy="714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625760" y="300960"/>
            <a:ext cx="665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НАЦИОНАЛНА ПРОГРАМА ФАР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BG 2006/018-343.1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РАЗВИТИЕ НА ЧОВЕШК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r>
              <a:rPr b="0" lang="bg-BG" sz="1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442880" y="5857920"/>
            <a:ext cx="693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3399"/>
                </a:solidFill>
                <a:latin typeface="Arial"/>
              </a:rPr>
              <a:t>ЕВРОПЕЙСКИЯ СЪЮЗ И ПРОГРАМА ФА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Rectangle 2" descr=""/>
          <p:cNvPicPr/>
          <p:nvPr/>
        </p:nvPicPr>
        <p:blipFill>
          <a:blip r:embed="rId6"/>
          <a:stretch/>
        </p:blipFill>
        <p:spPr>
          <a:xfrm>
            <a:off x="5310360" y="5072040"/>
            <a:ext cx="4211640" cy="59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Placeholder 2"/>
          <p:cNvSpPr/>
          <p:nvPr/>
        </p:nvSpPr>
        <p:spPr>
          <a:xfrm>
            <a:off x="738360" y="1643040"/>
            <a:ext cx="8381880" cy="37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акупено оборудване на стойност над 99 хил. лева за оборудване на две работни места за заварчици: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с две аспираци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две маси за заваряване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два предпазни шлема с филтър за свеж въздух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два броя предпазни лент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два стелажа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два шкафа за инструмент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четири броя локално осветление;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ети 10 безработни лица на устойчиви работни места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зена заетостта на заетия персон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9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6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Placeholder 2"/>
          <p:cNvSpPr/>
          <p:nvPr/>
        </p:nvSpPr>
        <p:spPr>
          <a:xfrm>
            <a:off x="738360" y="1643040"/>
            <a:ext cx="83818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ена стратегия за развитие на човешките ресурси.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 девет тръжни процеду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доставка на материали, консумативи и материални запаси, необходими за обучението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доставка на оборудване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застраховане на ДМА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публикаци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конференци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застраховане на представители на целевите груп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закупуване на работно облекло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издаване на документи за преминато обучение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за разработване на стратегия за развитие на човешките ресур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tangle 2" descr=""/>
          <p:cNvPicPr/>
          <p:nvPr/>
        </p:nvPicPr>
        <p:blipFill>
          <a:blip r:embed="rId8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84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Placeholder 2"/>
          <p:cNvSpPr/>
          <p:nvPr/>
        </p:nvSpPr>
        <p:spPr>
          <a:xfrm>
            <a:off x="738360" y="1643040"/>
            <a:ext cx="83818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ектът прилага принципа на равенство между половете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Допринася за утвърждаване на принципа на равните възможности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 условия за превенция на дискриминацията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лага иновативни подходи при реализацията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сочен е към подобряване на съществуващи методи на производство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вижда създаване на нова организ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2" descr=""/>
          <p:cNvPicPr/>
          <p:nvPr/>
        </p:nvPicPr>
        <p:blipFill>
          <a:blip r:embed="rId12"/>
          <a:stretch/>
        </p:blipFill>
        <p:spPr>
          <a:xfrm>
            <a:off x="6589800" y="835200"/>
            <a:ext cx="3151080" cy="47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92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738360" y="1643040"/>
            <a:ext cx="838188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В процеса на реализация се прилагат принципите на децентрализация и прозрачност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поделя добри практики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 социалното включване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 проспериращата основана на знание икономика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Допринася за опазване на околната сре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11"/>
          <a:stretch/>
        </p:blipFill>
        <p:spPr>
          <a:xfrm>
            <a:off x="6589800" y="835200"/>
            <a:ext cx="3151080" cy="47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4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6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Placeholder 2"/>
          <p:cNvSpPr/>
          <p:nvPr/>
        </p:nvSpPr>
        <p:spPr>
          <a:xfrm>
            <a:off x="738360" y="1643040"/>
            <a:ext cx="838188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пригодността за заетост на безработни лица от област Кюстендил за преодоляване на социалната им изолация в съответствие с изискванията на пазара на труда, и намаляване нивото на безработица в региона;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качеството на човешкия потенциал, чрез предоставян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качествено обучение за постигане на конкурентно производство;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не на по-добри условия на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2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Placeholder 2"/>
          <p:cNvSpPr/>
          <p:nvPr/>
        </p:nvSpPr>
        <p:spPr>
          <a:xfrm>
            <a:off x="738360" y="1643040"/>
            <a:ext cx="83818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яне на качествена професионална квалификация на 8 безработн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лица подбрани съвместно с Дирекция “Бюро по труда “ гр. Кюстендил п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я “Заварчик” и на 10 безработни лица по професия “Шлосер”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ждане на едномесечен стаж за безработните, успешно преминали курса на обучение;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не на трайна заетост на десет от безработните лица с на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добри показатели от обучението и стажа. Същите ще бъдат назначени на трудов договор в “ТОРГОТЕРМ” АД за срок от минимум 12 месе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9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Placeholder 2"/>
          <p:cNvSpPr/>
          <p:nvPr/>
        </p:nvSpPr>
        <p:spPr>
          <a:xfrm>
            <a:off x="738360" y="1643040"/>
            <a:ext cx="838188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професионалните умения на заетия персонал 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приятието, пряко отговорен за определяне и реализиране 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тиките в Торготерм АД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яне на допълнителна професионална квалификация на 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аети лица от оперативния мениджърски състав на дружеството чрез обучение по част от професия “Офис мениджър” за по-добр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, планиране и оптимизиране на ресурсите на дружеството.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2" descr=""/>
          <p:cNvPicPr/>
          <p:nvPr/>
        </p:nvPicPr>
        <p:blipFill>
          <a:blip r:embed="rId8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8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Placeholder 2"/>
          <p:cNvSpPr/>
          <p:nvPr/>
        </p:nvSpPr>
        <p:spPr>
          <a:xfrm>
            <a:off x="738360" y="1643040"/>
            <a:ext cx="838188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акупеното оборудване и обзавеждане на две работни места за заваряване отговаря на съвременните технологични изисквания за организация на работното място за заваряване и осигурява модерни условия за практическо обучение, качествен технологичен работен процес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ената Стратегия за развитие на човешките ресурси съдържа анализ на развитието на човешките ресурси в дружеството с ясно очертани проблемни страни 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белязани действия за преодоляването им.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Rectangle 2" descr=""/>
          <p:cNvPicPr/>
          <p:nvPr/>
        </p:nvPicPr>
        <p:blipFill>
          <a:blip r:embed="rId8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Placeholder 2"/>
          <p:cNvSpPr/>
          <p:nvPr/>
        </p:nvSpPr>
        <p:spPr>
          <a:xfrm>
            <a:off x="738360" y="1643040"/>
            <a:ext cx="838188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ектът е с продължителност 12 месеца и се реализира с финансовата помощ на Програма ФАР и бюджета на Република България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ло - 28.11.2008,  финал - 28.11.2009 г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Водеща организация – ТОРГОТЕРМ АД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артньор – Асоциация на индустриалния капитал в България, чрез Център за професионално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tangle 2" descr=""/>
          <p:cNvPicPr/>
          <p:nvPr/>
        </p:nvPicPr>
        <p:blipFill>
          <a:blip r:embed="rId10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Placeholder 2"/>
          <p:cNvSpPr/>
          <p:nvPr/>
        </p:nvSpPr>
        <p:spPr>
          <a:xfrm>
            <a:off x="738360" y="1643040"/>
            <a:ext cx="838188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граден екип;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дбрани безработни лица съвместно с ДБТ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 тръжни процедури;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вени материали за информиране и визуализация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акулено и монтирано оборудване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Адаптирани програми за обучение спрямо нуждите на предприятиет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Rectangle 2" descr=""/>
          <p:cNvPicPr/>
          <p:nvPr/>
        </p:nvPicPr>
        <p:blipFill>
          <a:blip r:embed="rId12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52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2"/>
          <p:cNvSpPr/>
          <p:nvPr/>
        </p:nvSpPr>
        <p:spPr>
          <a:xfrm>
            <a:off x="738360" y="1643040"/>
            <a:ext cx="838188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 обучения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ена стратегия за развитие на човешките ресурси; 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пространена информация за проекта;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а заключителна конферен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Rectangle 2" descr=""/>
          <p:cNvPicPr/>
          <p:nvPr/>
        </p:nvPicPr>
        <p:blipFill>
          <a:blip r:embed="rId10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219240" y="506520"/>
            <a:ext cx="9528120" cy="90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 rot="16200000">
            <a:off x="653760" y="6016320"/>
            <a:ext cx="454320" cy="714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3"/>
          <a:stretch/>
        </p:blipFill>
        <p:spPr>
          <a:xfrm rot="5400000">
            <a:off x="1497240" y="6042600"/>
            <a:ext cx="42840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60" name="Picture 6" descr=""/>
          <p:cNvPicPr/>
          <p:nvPr/>
        </p:nvPicPr>
        <p:blipFill>
          <a:blip r:embed="rId4"/>
          <a:stretch/>
        </p:blipFill>
        <p:spPr>
          <a:xfrm>
            <a:off x="8238960" y="60721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5"/>
          <a:stretch/>
        </p:blipFill>
        <p:spPr>
          <a:xfrm>
            <a:off x="9024840" y="6126120"/>
            <a:ext cx="571680" cy="4953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2166840" y="6184080"/>
            <a:ext cx="6000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НАЦИОНАЛНА ПРОГРАМА ФАР 2006 BG 2006/018-343.10.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РАЗВИТИЕ НА ЧОВЕШКИТЕ </a:t>
            </a:r>
            <a:r>
              <a:rPr b="1" lang="en-US" sz="700" spc="-1" strike="noStrike">
                <a:solidFill>
                  <a:srgbClr val="003399"/>
                </a:solidFill>
                <a:latin typeface="Arial"/>
              </a:rPr>
              <a:t>РЕСУРСИ И НАСЪРЧАВАНЕ НА ЗАЕТОСТТА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700" spc="-1" strike="noStrike">
                <a:solidFill>
                  <a:srgbClr val="003399"/>
                </a:solidFill>
                <a:latin typeface="Arial"/>
              </a:rPr>
              <a:t>ПРОЕКТЪТ СЕ РЕАЛИЗИРА С ФИНАНСОВАТА ПОДКРЕПА НА ЕВРОПЕЙСКИЯ СЪЮЗ И ПРОГРАМА ФА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Placeholder 2"/>
          <p:cNvSpPr/>
          <p:nvPr/>
        </p:nvSpPr>
        <p:spPr>
          <a:xfrm>
            <a:off x="738360" y="1374840"/>
            <a:ext cx="83818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ена професионална квалификация на 8 безработни лица по професия “Заварчик”; Придоби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степен на професионална квалификация; Издадени 8 свидетелства за придобита степен на професионална квалификация по професия “Заварчик”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ена професионална квалификация на 10 безработни лица по професия “Шлосер”; Придоби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степен на професионална квалификация; Издадени 10 свидетелства за придобита степен на професионална квалификацияпо професия “Шлосер”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ена професионална квалификация на 25 заети лица по професия “Офис мениджър”; Издадени 25 удостоверения за професионална квалификация по професия “Офис мениджър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" descr=""/>
          <p:cNvPicPr/>
          <p:nvPr/>
        </p:nvPicPr>
        <p:blipFill>
          <a:blip r:embed="rId9"/>
          <a:stretch/>
        </p:blipFill>
        <p:spPr>
          <a:xfrm>
            <a:off x="6589800" y="785880"/>
            <a:ext cx="3170160" cy="57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3:19:03Z</dcterms:created>
  <dc:creator/>
  <dc:description/>
  <dc:language>en-US</dc:language>
  <cp:lastModifiedBy/>
  <dcterms:modified xsi:type="dcterms:W3CDTF">2009-11-25T11:57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51991033</vt:lpwstr>
  </property>
</Properties>
</file>